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C54-BBFC-4EBB-8B95-796437C5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27A-2C10-4CD3-89B8-B616AA7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56E-055E-4843-9C7A-35ACF5FE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8BB-05EA-44C6-B9AA-6EF16628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2EDC-163E-4BFB-B029-15D45D8F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B44A-9E40-42F7-A29B-8D9420A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18E6-8C4E-4FE3-B0ED-58EEC769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BD17-D25C-4418-B43B-A3AF7FFE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6614-01F6-4D13-8DDD-92840360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7949-B634-40E4-BEBE-AF425FED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3E6F-B6C9-44D9-A0C5-C1D12EA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23E-55DE-44A9-9426-8F66128C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0F05-703D-4B2A-8930-9852B67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A778-E5A2-4E07-8A39-0E7AE96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FC77-447A-42EE-956B-34E97FB8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F9D0-79B5-4E50-BF67-6CFD0563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44C0-3A10-4923-8661-A3FC2439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EF9-63B0-4321-A2E1-C95A50E3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720-0243-4D2B-983C-A378F11C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D8A-F3A5-4CCC-82EC-0F3B4EF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EB7-3B98-41A6-BBB5-6D8FAE6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9E8-C684-4C14-8326-100467D5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7B5-8857-4039-9837-D40E0705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2C6-1B4B-473A-A44C-7DEBE0D4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4C09-A5D6-4D8E-A417-A4C981FAD9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C7D6-FD39-4E4C-804B-E761E1F4C6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700" spc="-1" strike="noStrike">
                <a:solidFill>
                  <a:srgbClr val="eec85e"/>
                </a:solidFill>
                <a:latin typeface="Arial"/>
              </a:rPr>
              <a:t>It’s Not Fair!</a:t>
            </a:r>
            <a:br>
              <a:rPr sz="5700"/>
            </a:br>
            <a:r>
              <a:rPr b="0" lang="en-AU" sz="3600" spc="-1" strike="noStrike">
                <a:solidFill>
                  <a:srgbClr val="eec85e"/>
                </a:solidFill>
                <a:latin typeface="Arial"/>
              </a:rPr>
              <a:t>but then, what is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Verdana"/>
              </a:rPr>
              <a:t>The response of health care providers to compla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Verdana"/>
              </a:rPr>
              <a:t>Dr Michael Epste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What causes mental health problem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Verdana"/>
              </a:rPr>
              <a:t>Mental health problems are caused by actual, perceived or threatened lo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Verdana"/>
              </a:rPr>
              <a:t>Such losses inclu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Loss of heal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Loss of li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Loss of weal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Loss of oth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Loss of love of oth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Loss of self-lo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Verdana"/>
              </a:rPr>
              <a:t>All these are a possible outcome of a complai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How are most complaints resolve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Resolution, both parties satisfi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No resolution, both parties dissatisfi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Compromise, both parties feel partly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vindicated and partly disappoint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Why do people complain about health care provider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because they have a grievance against a health-care provid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e health-care provider has, in some ways,  betrayed th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may have attempted to raise the complaint with the health-care provider but does not feel hear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experiences the health-care provider as having all the power in the relationship (ironically, most health care providers feel a strong sense of powerlessness which they conceal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ec85e"/>
                </a:solidFill>
                <a:latin typeface="Arial"/>
              </a:rPr>
              <a:t>Complaints about doctors in</a:t>
            </a:r>
            <a:br>
              <a:rPr sz="3200"/>
            </a:br>
            <a:r>
              <a:rPr b="0" lang="en-AU" sz="3200" spc="-1" strike="noStrike">
                <a:solidFill>
                  <a:srgbClr val="eec85e"/>
                </a:solidFill>
                <a:latin typeface="Arial"/>
              </a:rPr>
              <a:t>Australia and New Zealand 2004/2005</a:t>
            </a:r>
            <a:br>
              <a:rPr sz="3200"/>
            </a:br>
            <a:r>
              <a:rPr b="0" lang="en-AU" sz="1600" spc="-1" strike="noStrike">
                <a:solidFill>
                  <a:srgbClr val="eec85e"/>
                </a:solidFill>
                <a:latin typeface="Arial"/>
              </a:rPr>
              <a:t>(Medical Board reports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989000"/>
          <a:ext cx="8362800" cy="4319640"/>
        </p:xfrm>
        <a:graphic>
          <a:graphicData uri="http://schemas.openxmlformats.org/drawingml/2006/table">
            <a:tbl>
              <a:tblPr/>
              <a:tblGrid>
                <a:gridCol w="2787480"/>
                <a:gridCol w="2787840"/>
                <a:gridCol w="2787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tate or countr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. of doctors registere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mplaints receive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w South Wal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7 08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80   (3.9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w Zealan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 95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94     (3.5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rthern Territor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86 (2003 figure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? 558 (all HCP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Queenslan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 64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9     (2.7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uth Austral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4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4     (2.2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sman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 25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8     (6.5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ctor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8 66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90     (3.7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estern Austral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 2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9     (2.3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7632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Breakdown of complaints against health service providers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cc"/>
                </a:solidFill>
                <a:latin typeface="Arial"/>
              </a:rPr>
              <a:t>Report of the Victorian Health Services Commissioner 2005/2006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Health Service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Health Record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telephone enquiries 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6402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2265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single contact (registered complaints that were not subsequently confirmed in writing) 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  931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11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accepted cases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1013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11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Total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10842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2496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There was a 7% decrease in the total number of complaints for the year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Level of Seriousness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with regard to both health records and health service complaint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Low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Medium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Health service complaints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1259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 675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Health Records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136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 112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   5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gender ratio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of complainants was approximately 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1.3 females to 1 male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median age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of complainants was 35 to 44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Who is complained abou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Issues in GP compla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736720" cy="4530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5812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Reasons for compla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administration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   8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communication 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 23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cost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 12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rights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 10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treatment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1211 (70%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Complaints about treatment provided by medical practitione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treatment issues include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nadequate diagnosis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13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nadequate treatment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42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medication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5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negligent treatment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23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other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4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ough treatment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5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unskilful/incompetent treatment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5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wrong diagnosis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2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wrong treatment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1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Complaints by specialist grou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General practitioners__________24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Group practice_______________  1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urgeons___________________  8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Plastic surgeons________________  1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Orthopaedic surgeons___________   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Physicians__________________  6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Dermatologists________________    17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Psychiatrists________________   2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bstetrician/Gynaecologists____  2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Not specified________________18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Total______________________68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What is a complaint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What is our usual response to a complaint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What is our usual response to a complainant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How are most complaints resolved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How many complaints are there against health service provider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How serious are these complaint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What are the specifics of the complaint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What is a break-up of the various disciplines involved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How is the response of health care providers different to the response of others (focus on medical practitioner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A brief digression - mental illness/mental health proble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The three phases of response to a compla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Why is the response of those complained against important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Guidelines for dealing with health care providers regarding complai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Outcome of complaints against medical practitione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In New South Wales one doctor in 20 subject to written complaints to the Health Care Complaints Commiss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Less than 10% resulted in some form of discipline the action includ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Verdana"/>
              </a:rPr>
              <a:t>counsell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Verdana"/>
              </a:rPr>
              <a:t>limited conditions of practi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Verdana"/>
              </a:rPr>
              <a:t>supervision of practice or deregistr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2% of general practitioner face a medical negligence claim per year, the number varies among specialt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6% of litigating claims go to tri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28% discontinu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66% settled out of cour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ec85e"/>
                </a:solidFill>
                <a:latin typeface="Arial"/>
              </a:rPr>
              <a:t>Is the response of medical practitioners (doctors) different to the response of other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response of doctors appears to be more intense and more personally felt for these reas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ec85e"/>
                </a:solidFill>
                <a:latin typeface="Arial"/>
              </a:rPr>
              <a:t>Most complaints are about treatment (70%), this directly challenges a self image of being a caring, competent professional who (is)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logical and sensi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perfec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responsible for patient’s healt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has a more personal relationship with patients than do other profess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ec85e"/>
                </a:solidFill>
                <a:latin typeface="Arial"/>
              </a:rPr>
              <a:t>The fact that a complaint has been made means (that)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the doctor/patient relationship has been betrayed when a complaint is made to a third par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an accusation of incompet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loss of standing with colleagues and other patie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livelihood is threatene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Physical safety possibly threatene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The three phases of response to a complaint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cc"/>
                </a:solidFill>
                <a:latin typeface="Arial"/>
              </a:rPr>
              <a:t>Initial impa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A sense of "being out of control"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A feeling of shock and panic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indignation towards patients generall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cc"/>
                </a:solidFill>
                <a:latin typeface="Arial"/>
              </a:rPr>
              <a:t>Conflict Sta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around professional identit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with family and colleagu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arising from the management of the complaint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accompanied by feelings of anger, depression and suicidal ideati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cc"/>
                </a:solidFill>
                <a:latin typeface="Arial"/>
              </a:rPr>
              <a:t>Resolution Sta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Positive respons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A review of factors leading to the complaint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Improved administrative procedur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Improved communication skills with patients and other health-care provider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An assessment of lifestyle problems leading to fatigue and irritabilit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Joining a peer review group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Negative respons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defensive practic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for some, plans to leave practic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for some there was no resolution, these were a minorit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ec85e"/>
                </a:solidFill>
                <a:latin typeface="Arial"/>
              </a:rPr>
              <a:t>Sued and non sued physician’s self reported reactions to malpractice legislation </a:t>
            </a:r>
            <a:r>
              <a:rPr b="0" lang="en-AU" sz="2000" spc="-1" strike="noStrike">
                <a:solidFill>
                  <a:srgbClr val="eec85e"/>
                </a:solidFill>
                <a:latin typeface="Arial"/>
              </a:rPr>
              <a:t>(AmerJPsychiatry1984;141:563-565)</a:t>
            </a:r>
            <a:r>
              <a:rPr b="0" lang="en-A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n a Chicago study 5135 doctors were sued in the period 1978-1981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postal survey (one third responded)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none had an adverse trial verdict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2 clusters of emotional symptoms were foun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39% had symptoms of "major depression" a quarter lasting longer than two week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20% had symptoms of pervasive anger, mood change, inattention, frustration, irritability, insomnia, fatigue, gastrointestinal symptoms and headach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4% reported no physical or emotional symptom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ec85e"/>
                </a:solidFill>
                <a:latin typeface="Arial"/>
              </a:rPr>
              <a:t>The response of doctors to a formal complaint, </a:t>
            </a:r>
            <a:r>
              <a:rPr b="0" lang="en-AU" sz="2400" spc="-1" strike="noStrike">
                <a:solidFill>
                  <a:srgbClr val="eec85e"/>
                </a:solidFill>
                <a:latin typeface="Arial"/>
              </a:rPr>
              <a:t>Nash et al AustPsych14:3 246-25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Survey of doctors complained about over a 4 month period n=69 60% responde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Average age 55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Average time in practice 29 years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88% Australian gradu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81% ma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32%GPs (half in solo practic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62% Specialis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Average attendance 7 peer review sessions per ye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45% (19) no previous complai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5% (2) 5 or more previous complai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ec85e"/>
                </a:solidFill>
                <a:latin typeface="Arial"/>
              </a:rPr>
              <a:t>The response of doctors to a formal complaint: part 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38% met criteria for psychiatric morbidity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12% psychiatric morbidity in Australian general popul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However similar to other Australian medical sampl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Verdana"/>
              </a:rPr>
              <a:t>37% of interns meeting definitio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Verdana"/>
              </a:rPr>
              <a:t>41% of senior medical staff from a metropolitan teaching hospital meeting definitio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Those who regard the complaint as more serious had greater psychiatric morbidity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Little impairment of work, social life, leisure or family life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Verdana"/>
              </a:rPr>
              <a:t>Respondents scored significantly higher than the general population on tough mindednes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ec85e"/>
                </a:solidFill>
                <a:latin typeface="Arial"/>
              </a:rPr>
              <a:t>Why is the response of those complained against important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the response of those against whom complaints have been made is critical in resolving the particular complai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critical also in improving patient c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and in empowering patients to take control of their own bod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an impetus to the health care provider to grow professionally and personal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ec85e"/>
                </a:solidFill>
                <a:latin typeface="Arial"/>
              </a:rPr>
              <a:t>Guidelines for dealing with health care providers regarding complaints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be aware of the different phases of response to a complai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e initial response will be an emotional response, the bearer of bad news may become the brunt of this response (do not take this personall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health-care providers need time and a framework in which to work through the fact that a complaint has been made against th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Preliminary com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t is vitally important that intermediaries do not have a personal agend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t is important to bear in mind the complainant may be wro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t is important to bear in mind that the health care provider, especially if a man, might not be an uncaring, unscrupulous, in-it-for-the-money, incompetent ‘male chauvinist pig’ (although he may b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t is useful if the health-care provider can identify with the intermedi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is includes such matters 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ge of the intermediary relative to the age of the provi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clothing style of the intermedi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perceived neutrality of the intermedi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form of address (eg inappropriate use of first nam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A framework to consider (1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means of first contac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one of the let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e information in the let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detailing the complain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nformation about the process of complaint resol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e day of the week the letter will be received (better on a Monda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n available contact pers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willingness of the contact person to list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n awareness of the vulnerability of the health-care provid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What is a Complaint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 expression of pain, dissatisfaction, or resentment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ause or reason for complaining; a grievance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Australian Standard provides the following definition of complaint:  “Any expression of dissatisfaction with a product or service offered or provided”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 complaint is: Any expression of dissatisfaction or concern made to an organisation by, or on behalf of, an individual client – including government agencies – group or member of the public, related to the organisation’s products or services, or the complaints handling process itself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A framework to consider (2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usual responses to compla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complaint does not always mean that the provider is a bad doctor or incompetent (although it may be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support people to contac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ways to resolve the complai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preventing further compla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dealing with the complainant (and the complainant’s family) at the time and possibly in the fu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ealth care providers have high expectations of themselves personally and professional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ealth care providers respond negatively at an emotional level to compla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n awareness of the response of health care providers allows for more effective resolution of the compla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uch awareness also prevents alienation of the health-care provider from the complaints proc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uch awareness may also mitigate the mental health problems arising from the compla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 successful outcome is good both for the complainant and for the health-care provider and hopefully for the public more general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Effective Complaints managemen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Commit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Fair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Visibilit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No Char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emed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ystemic and recurring problem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eview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What is our usual response to a complaint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ng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Deni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elf justifi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esent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ncreased emotionality including anxiety, irritability and depressed m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eightened arousal, sleep and appetite disturbance, memory and concentration disturbance, easily distract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esigna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ccept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Long term positive or negative effec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ec85e"/>
                </a:solidFill>
                <a:latin typeface="Arial"/>
              </a:rPr>
              <a:t>What is our usual response to a complainant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Variable – depends o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the nature of the complain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The closer the complaint is to one’s sense of self, the more painful it i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the manner in which the complaint is mad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the reasonableness of the complainan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the perceived motives of the complainan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the threat posed by the complainan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Whistleblowers fat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mistrusted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motives questioned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marginalised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personal attacks,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career blight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Psychological factors involv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It is important to differentiate between mental illness and mental health problems.  Complaints lead to mental health problems for the people complained agains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Mental illn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 pattern of behaviour and/or thoughts leading to dysfunction and which requires treat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ssociated with a significantly increased risk of suffering death, pain, disability, or important loss of freedom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Biological causes predomin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Common mental disorders include schizophrenia, bipolar disorder and some of the anxiety disord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pproximately 3% of the commun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ec85e"/>
                </a:solidFill>
                <a:latin typeface="Arial"/>
              </a:rPr>
              <a:t>Mental health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Usually a response to an environmental stress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Associated with distress, behavioural changes, sleep and appetite disturb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Settles with resolution of the stressor/or the passage of 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May require symptomatic treat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About 20% of the population at any one 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2:12:15Z</dcterms:created>
  <dc:creator>Michael</dc:creator>
  <dc:description/>
  <dc:language>en-US</dc:language>
  <cp:lastModifiedBy>Michael</cp:lastModifiedBy>
  <dcterms:modified xsi:type="dcterms:W3CDTF">2006-11-16T08:00:30Z</dcterms:modified>
  <cp:revision>10</cp:revision>
  <dc:subject/>
  <dc:title>It’s Not Fair</dc:title>
</cp:coreProperties>
</file>